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1107-F017-4061-BA5D-9E3191F28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457C-7EA7-4338-9AC7-45EC26F2CD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264E-5DC0-4561-B089-2D57B99A5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CAB7-456A-4A11-A819-D31F1C3A1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6975-D54D-4968-8775-A11051F29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E2E3-3C64-4A68-BD74-B486FD127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7223-0B62-4F13-A68F-D4865319A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54A3-742F-43BD-BCBE-288331280A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3EF1-49A0-479F-B2F3-4404206D0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B4F9-5BAA-498A-BBDD-7C249C7AE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6593-E789-4C9B-9DCB-21D78DED10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6A5C-0ACC-44D2-B611-487F07044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9AFF-F3FD-46DA-9EDA-8AD303EAD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9D6-B6CA-431B-B73E-395B80C61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AA7E-2AAD-40E5-BA60-4B889187C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58F9-04B5-490E-8FED-77E99F47F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8CD-4657-4331-9C57-43A06E8D1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FB7A-BE59-48F3-A6A1-6130CEBA6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C4CB-52F7-4102-87F6-599F323ED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615C-6F68-4E90-986F-EE59D65F5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AB68-1549-4F0C-8019-F32D1E8DF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C037-3DAF-4EEE-AB98-694DB7209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5FC1-BFD3-414A-A3A0-6FD3950992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7FE3-541C-484B-B4E8-D53A2708B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6B1E-163D-4286-99D5-4D88AEDB7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8336-22F7-40BE-A83C-2C08F2D59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7B4-6955-446A-BD7C-A68D4405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F57-48B5-4D1F-A821-EB032B6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CEB-52A2-4876-8337-4A39EC89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295-3C29-4ABE-9826-A2A5FC30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2C4-31C5-4A57-ABD7-CBC7D9B5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D3C-3B06-45C5-96E6-E89FC7FF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A95-A533-4995-BCAA-84927AF8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30C-9926-4C74-A88A-1DF59C75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1B8-08B3-4D98-B8E2-C7C6CA9E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5AA-87C2-4F80-ABCB-F6B760C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D7D-A533-44A1-809B-38978C2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9C8-DA85-4E89-A291-41A127FE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6139-2A9C-48DD-9479-AF4873D5A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.foto.radikal.ru/0703/4c/62848a88ea59.png" TargetMode="External"/><Relationship Id="rId2" Type="http://schemas.openxmlformats.org/officeDocument/2006/relationships/hyperlink" Target="http://s60.radikal.ru/i167/0905/df/b0f13a866051.png" TargetMode="External"/><Relationship Id="rId3" Type="http://schemas.openxmlformats.org/officeDocument/2006/relationships/hyperlink" Target="http://s43.radikal.ru/i100/1001/20/5b7dede1e7dc.png" TargetMode="External"/><Relationship Id="rId4" Type="http://schemas.openxmlformats.org/officeDocument/2006/relationships/hyperlink" Target="http://s59.radikal.ru/i165/1010/56/331c0aa3caaf.png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устыня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>
            <a:hlinkClick r:id="" action="ppaction://hlinkshowjump?jump=nextslide"/>
          </p:cNvPr>
          <p:cNvSpPr/>
          <p:nvPr/>
        </p:nvSpPr>
        <p:spPr>
          <a:xfrm>
            <a:off x="8244000" y="5805360"/>
            <a:ext cx="576000" cy="792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708">
                <a:moveTo>
                  <a:pt x="0" y="0"/>
                </a:moveTo>
                <a:lnTo>
                  <a:pt x="21600" y="0"/>
                </a:lnTo>
                <a:lnTo>
                  <a:pt x="21600" y="29708"/>
                </a:lnTo>
                <a:lnTo>
                  <a:pt x="0" y="29708"/>
                </a:lnTo>
                <a:close/>
              </a:path>
              <a:path fill="lightenLess" w="21600" h="29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8">
                <a:moveTo>
                  <a:pt x="21600" y="0"/>
                </a:moveTo>
                <a:lnTo>
                  <a:pt x="21600" y="29708"/>
                </a:lnTo>
                <a:lnTo>
                  <a:pt x="20200" y="28308"/>
                </a:lnTo>
                <a:lnTo>
                  <a:pt x="20200" y="1400"/>
                </a:lnTo>
                <a:close/>
              </a:path>
              <a:path fill="darkenLess" w="21600" h="29708">
                <a:moveTo>
                  <a:pt x="21600" y="29708"/>
                </a:moveTo>
                <a:lnTo>
                  <a:pt x="0" y="29708"/>
                </a:lnTo>
                <a:lnTo>
                  <a:pt x="1400" y="28308"/>
                </a:lnTo>
                <a:lnTo>
                  <a:pt x="20200" y="28308"/>
                </a:lnTo>
                <a:close/>
              </a:path>
              <a:path fill="lighten" w="21600" h="29708">
                <a:moveTo>
                  <a:pt x="0" y="29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8"/>
                </a:lnTo>
                <a:close/>
              </a:path>
              <a:path fill="darken" w="21600" h="29708">
                <a:moveTo>
                  <a:pt x="3794" y="7848"/>
                </a:moveTo>
                <a:lnTo>
                  <a:pt x="17806" y="14854"/>
                </a:lnTo>
                <a:lnTo>
                  <a:pt x="3794" y="21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>
            <a:hlinkClick r:id="" action="ppaction://hlinkshowjump?jump=lastslide"/>
          </p:cNvPr>
          <p:cNvSpPr/>
          <p:nvPr/>
        </p:nvSpPr>
        <p:spPr>
          <a:xfrm>
            <a:off x="680400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156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236" h="21600">
                <a:moveTo>
                  <a:pt x="16723" y="14281"/>
                </a:moveTo>
                <a:lnTo>
                  <a:pt x="16723" y="12323"/>
                </a:lnTo>
                <a:cubicBezTo>
                  <a:pt x="16723" y="11496"/>
                  <a:pt x="17054" y="10800"/>
                  <a:pt x="17655" y="10800"/>
                </a:cubicBezTo>
                <a:cubicBezTo>
                  <a:pt x="18786" y="10800"/>
                  <a:pt x="19683" y="9434"/>
                  <a:pt x="19683" y="7849"/>
                </a:cubicBezTo>
                <a:cubicBezTo>
                  <a:pt x="19683" y="5534"/>
                  <a:pt x="17829" y="3794"/>
                  <a:pt x="15618" y="3794"/>
                </a:cubicBezTo>
                <a:cubicBezTo>
                  <a:pt x="13407" y="3794"/>
                  <a:pt x="11736" y="5534"/>
                  <a:pt x="11736" y="7849"/>
                </a:cubicBezTo>
                <a:lnTo>
                  <a:pt x="13590" y="7849"/>
                </a:lnTo>
                <a:cubicBezTo>
                  <a:pt x="13590" y="6709"/>
                  <a:pt x="14513" y="5821"/>
                  <a:pt x="15618" y="5821"/>
                </a:cubicBezTo>
                <a:cubicBezTo>
                  <a:pt x="16723" y="5821"/>
                  <a:pt x="17655" y="6709"/>
                  <a:pt x="17655" y="7849"/>
                </a:cubicBezTo>
                <a:cubicBezTo>
                  <a:pt x="17655" y="8589"/>
                  <a:pt x="17185" y="9320"/>
                  <a:pt x="16723" y="9320"/>
                </a:cubicBezTo>
                <a:cubicBezTo>
                  <a:pt x="15618" y="9320"/>
                  <a:pt x="14513" y="10800"/>
                  <a:pt x="14513" y="12323"/>
                </a:cubicBezTo>
                <a:lnTo>
                  <a:pt x="1451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284720" y="333360"/>
            <a:ext cx="4170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гра – тренаж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971640" y="1557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Умникам и умница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0" y="551664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Клено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У СОШ №152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28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8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8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8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9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82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6" dur="4745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8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9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0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31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31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1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1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92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8" dur="4745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4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0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1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9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32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3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33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34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34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4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0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0" dur="474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7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9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2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3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59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6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6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6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7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7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3" dur="indefinite" restart="never" nodeType="tmRoot">
          <p:childTnLst>
            <p:seq>
              <p:cTn id="112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13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2" dur="4745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5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4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5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8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38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9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9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9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40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5" dur="indefinite" restart="never" nodeType="tmRoot">
          <p:childTnLst>
            <p:seq>
              <p:cTn id="12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1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2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5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7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8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0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1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324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474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13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1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1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42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2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2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33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9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4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4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44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44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45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5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9" dur="indefinite" restart="never" nodeType="tmRoot">
          <p:childTnLst>
            <p:seq>
              <p:cTn id="1430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43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4745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4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5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6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6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46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47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47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7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8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1" dur="indefinite" restart="never" nodeType="tmRoot">
          <p:childTnLst>
            <p:seq>
              <p:cTn id="153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1538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542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8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9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2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3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5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6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9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49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9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0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0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0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4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2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9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73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4" dur="4745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21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2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2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2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3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3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5" dur="indefinite" restart="never" nodeType="tmRoot">
          <p:childTnLst>
            <p:seq>
              <p:cTn id="1736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742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4" dur="4745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74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0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6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2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3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4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6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0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7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7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7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48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5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55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55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55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6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7" dur="indefinite" restart="never" nodeType="tmRoot">
          <p:childTnLst>
            <p:seq>
              <p:cTn id="183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84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6" dur="474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1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2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3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87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9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0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1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2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75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57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8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8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8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8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9" dur="indefinite" restart="never" nodeType="tmRoot">
          <p:childTnLst>
            <p:seq>
              <p:cTn id="194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7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8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0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1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3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38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0" dur="4745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0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0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0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1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1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1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1" dur="indefinite" restart="never" nodeType="tmRoot">
          <p:childTnLst>
            <p:seq>
              <p:cTn id="204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04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048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47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0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5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56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7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0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8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9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9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2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3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6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0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121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25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6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9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63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3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63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4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4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3" dur="indefinite" restart="never" nodeType="tmRoot">
          <p:childTnLst>
            <p:seq>
              <p:cTn id="214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45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2150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2" dur="4745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7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8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9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9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200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3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4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5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223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6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7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8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5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5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6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6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6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7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5" dur="indefinite" restart="never" nodeType="tmRoot">
          <p:childTnLst>
            <p:seq>
              <p:cTn id="224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252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4" dur="4745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2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9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60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61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4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22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3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4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30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5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6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7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4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325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8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9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0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3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83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68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68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69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9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69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7" dur="indefinite" restart="never" nodeType="tmRoot">
          <p:childTnLst>
            <p:seq>
              <p:cTn id="234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234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2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3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54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7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1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237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76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0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4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23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8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9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0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3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24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1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2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23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0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441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446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8" dur="4745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тернет -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.foto.radikal.ru/0703/4c/62848a88ea5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ерепах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60.radikal.ru/i167/0905/df/b0f13a86605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ш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43.radikal.ru/i100/1001/20/5b7dede1e7dc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ра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59.radikal.ru/i165/1010/56/331c0aa3caaf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s59.radikal.ru/i166/0903/59/7431a707a57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рблю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http://www.elephant.ru/images/toys/190/50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устын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http://www.pcservicespb.ru/wallpaper/wallpaper/pustosh/1280/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пуг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003.radikal.ru/i201/1010/90/a084e16c5d9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вер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11.radikal.ru/i183/0908/61/ef01b4e7d54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>
            <a:hlinkClick r:id="" action="ppaction://hlinkshowjump?jump=firstslide"/>
          </p:cNvPr>
          <p:cNvSpPr/>
          <p:nvPr/>
        </p:nvSpPr>
        <p:spPr>
          <a:xfrm>
            <a:off x="7740720" y="5950080"/>
            <a:ext cx="934920" cy="7189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14043" y="3837"/>
                </a:moveTo>
                <a:lnTo>
                  <a:pt x="16620" y="6448"/>
                </a:ln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lnTo>
                  <a:pt x="21006" y="10800"/>
                </a:lnTo>
                <a:lnTo>
                  <a:pt x="19353" y="10800"/>
                </a:lnTo>
                <a:lnTo>
                  <a:pt x="19353" y="17989"/>
                </a:lnTo>
                <a:lnTo>
                  <a:pt x="8734" y="17989"/>
                </a:lnTo>
                <a:lnTo>
                  <a:pt x="8734" y="10800"/>
                </a:lnTo>
                <a:lnTo>
                  <a:pt x="7080" y="10800"/>
                </a:lnTo>
                <a:close/>
              </a:path>
              <a:path fill="darkenLess" w="28086" h="21600">
                <a:moveTo>
                  <a:pt x="16620" y="6448"/>
                </a:move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close/>
              </a:path>
              <a:path fill="darkenLess" w="28086" h="21600">
                <a:moveTo>
                  <a:pt x="13121" y="14299"/>
                </a:moveTo>
                <a:lnTo>
                  <a:pt x="14966" y="14299"/>
                </a:lnTo>
                <a:lnTo>
                  <a:pt x="14966" y="17989"/>
                </a:lnTo>
                <a:lnTo>
                  <a:pt x="19353" y="17989"/>
                </a:lnTo>
                <a:lnTo>
                  <a:pt x="19353" y="10800"/>
                </a:lnTo>
                <a:lnTo>
                  <a:pt x="8734" y="10800"/>
                </a:lnTo>
                <a:lnTo>
                  <a:pt x="8734" y="17989"/>
                </a:lnTo>
                <a:lnTo>
                  <a:pt x="131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9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9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9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0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10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1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2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12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2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3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7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4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4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15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5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5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31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47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7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7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17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17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18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8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41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47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9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0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0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0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1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51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6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3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2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22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2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3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3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23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9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71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51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25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5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5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6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6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72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4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0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1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3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4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05:02Z</dcterms:created>
  <dc:creator>user</dc:creator>
  <dc:description/>
  <dc:language>en-US</dc:language>
  <cp:lastModifiedBy>Юрий</cp:lastModifiedBy>
  <dcterms:modified xsi:type="dcterms:W3CDTF">2011-04-02T08:13:59Z</dcterms:modified>
  <cp:revision>64</cp:revision>
  <dc:subject/>
  <dc:title>Слайд 1</dc:title>
</cp:coreProperties>
</file>